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F96-8A54-43F3-A097-1E36F4CD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69D-E0FE-4DF9-A9AF-33F1D021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5389-2F29-4AE2-BFBA-6F55B92F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4430-AB44-47F9-8BDF-619E741C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46A-AEE2-456F-9E56-B30E908A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2D1-BE47-456D-A61F-D94FEA01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A30-E478-425D-8C8D-66329AFA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0EC-70FE-4F8F-A342-F1C4FA70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B56-CA21-4A1A-A8B2-0B94A128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776-8B55-4936-8E54-B57E5669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F80-DC92-44EB-89C1-F7AD0E66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A7C-D692-4945-AAE3-C81D7215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35D0-7C5A-4B71-96FE-3215514AAA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11C. Linear Programming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What is a linear programming problem?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40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 set of variables (in Further Maths there will only ever be two variables) called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decision variables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 set of restrictions or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constraints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on the value of these variable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function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(called the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objective function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) of these two variables. We will want to either make this function as large as possible (maximise) or as small as possible (minimise)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re will only be two decision variables, so they can be graphed on x- and y- axes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constraints are expressed as a set of inequations, like those in Ex 11B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constraints are graphed and the solution region will be a polygon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The objective function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objective function is a function of the two decision variables usually related to cost, distance, or some other relationship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maximum or minimum of the objective function occurs at one of the vertices (corner points) of the solution region polygon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Worked example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Work through Worked Examples 6, 7, 8 on p.532-535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n try Ex 11C, Q.1, 2, 3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Follow Worked Example 9 on page 536, then try Ex 11C, Q. 5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Follow Worked Example 10 on page 538, then try Ex 11C, Q. 7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Finish with Ex 11C, Q. 8, 9, 10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2:27:28Z</dcterms:created>
  <dc:creator>08843474</dc:creator>
  <dc:description/>
  <dc:language>en-US</dc:language>
  <cp:lastModifiedBy>08843474</cp:lastModifiedBy>
  <dcterms:modified xsi:type="dcterms:W3CDTF">2011-06-20T08:54:45Z</dcterms:modified>
  <cp:revision>4</cp:revision>
  <dc:subject/>
  <dc:title>11C. Linear Programming</dc:title>
</cp:coreProperties>
</file>